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193-222E-4D59-B28B-45D9C181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7ED-B52D-4A96-84F5-F61D348D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800-4B77-4685-B94E-4F4E6F0D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728-DC46-4C8A-B860-50AB83E1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080-B438-4821-96B9-BBA146A0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72E-22D1-4205-A612-FE5F2204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B28-F3CD-40F2-8C45-BBE67994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B30-C1DB-4340-A6D4-8928A761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1EF-0286-4E96-8093-DC83722A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5B0-1FD4-49D3-81B3-66D479C3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165-F099-4207-82B1-67D89492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4ED-787F-436A-8654-BD906E46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4962-3BE7-4F12-9657-2C5282DCA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Digital%20Links%20to%20Support%20Cycle%20Steps%206%20-%208.doc" TargetMode="External"/><Relationship Id="rId3" Type="http://schemas.openxmlformats.org/officeDocument/2006/relationships/hyperlink" Target="file:///Digital%20Links%20to%20Support%20Cycle%20step%201.doc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632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2209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Digital Links: 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gital Links: Steps 6 -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200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Digital Links: 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4648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Digital Links: 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6019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Digital Links: Step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90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gital Links: Ste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1:55:01Z</dcterms:created>
  <dc:creator>User</dc:creator>
  <dc:description/>
  <dc:language>en-US</dc:language>
  <cp:lastModifiedBy>User</cp:lastModifiedBy>
  <dcterms:modified xsi:type="dcterms:W3CDTF">2012-04-09T13:49:09Z</dcterms:modified>
  <cp:revision>6</cp:revision>
  <dc:subject/>
  <dc:title>Slide 1</dc:title>
</cp:coreProperties>
</file>